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B60F-B04B-4B4B-9F6F-F7376982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BFBC2-A0A1-49BC-9D4D-420D104D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398A1-90A4-4401-8418-B40A2580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25121-2E61-4EC7-827B-6C9F6E9D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F2E2-F3C5-4B7D-934B-B1EDC301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9319-5CCE-4CAB-ABFF-62B5804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84B-0337-4845-8AD1-6B9820C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2560-122A-4369-B11A-CA6F5791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DADD-E830-473D-97BD-7DC09646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3C1D-B023-45F6-982E-AD53ADC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FE90-E63B-4BE7-A160-1A8479D1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A71B-FF73-48CB-84F6-209BA45B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C14A-9D18-48D7-9568-50371208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53B1-EF56-4959-BB4C-4E8459A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A21A-0006-4936-B0A9-D94CBA9D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AA2-2959-4C1E-8CBD-1522B4F7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0CB0-BB81-4591-96F4-DF2987AC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B3B2-F99D-446F-8EDA-5FC4DE7A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3E1B-E5D2-40A4-825C-D42B3AB7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5FD4C-E7F0-4A0D-AE53-02236FEB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70D6-CBD4-4591-AFA4-56D11DCA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1E7D-ECEF-4AC9-A497-D306335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05CA-7594-4171-B38E-0BAAFABF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6A2E-C622-487D-B0F8-E7200690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EAE3-A26B-465A-BE01-ADAFBE40AC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e0000"/>
                  </a:gs>
                  <a:gs pos="100000">
                    <a:srgbClr val="8c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a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6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9DC1-3386-43EC-B887-0F268D935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ffcc00"/>
                </a:solidFill>
                <a:latin typeface="Garamond"/>
              </a:rPr>
              <a:t>Méthodes de Recherche Qualitative en Sciences Sociales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Gautier Pirot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Chargé de co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2006-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 u="sng">
                <a:solidFill>
                  <a:srgbClr val="ffcc00"/>
                </a:solidFill>
                <a:uFillTx/>
                <a:latin typeface="Garamond"/>
              </a:rPr>
              <a:t>Pensée du jour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ffff"/>
                </a:solidFill>
                <a:latin typeface="Garamond"/>
              </a:rPr>
              <a:t>Etre humain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ffff"/>
                </a:solidFill>
                <a:latin typeface="Garamond"/>
              </a:rPr>
              <a:t>c’est aimer les hommes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ffff"/>
                </a:solidFill>
                <a:latin typeface="Garamond"/>
              </a:rPr>
              <a:t>Etre sage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ffffff"/>
                </a:solidFill>
                <a:latin typeface="Garamond"/>
              </a:rPr>
              <a:t>c’est apprendre à les connaître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ffffff"/>
                </a:solidFill>
                <a:latin typeface="Garamond"/>
              </a:rPr>
              <a:t>Lao-Tseu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Bienvenue aux étudiant(e)s d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1ere Licence en Crimi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1ere Licence en Soci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2e Bac Info &amp;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3e Bac Info et 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3e Bac Sc. Humaines et Socia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Garamond"/>
              </a:rPr>
              <a:t>3e Bac Sociologie &amp; Anthrop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(../.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Bienvenue aux étudiant(e)s de: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anthrop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gestion des ressources humai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population et développ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sciences du trav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soci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née préparatoire au Master en sociologie et anthropolog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1er Master en Criminologie, finalité spécialisé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Objectifs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ffffff"/>
                </a:solidFill>
                <a:uFillTx/>
                <a:latin typeface="Garamond"/>
              </a:rPr>
              <a:t>Objectif général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Méthode qualitative = </a:t>
            </a: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démarche globale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 (insérée dans un processus de recherche) et ensemble de </a:t>
            </a: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techniques particulières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ffffff"/>
                </a:solidFill>
                <a:uFillTx/>
                <a:latin typeface="Garamond"/>
              </a:rPr>
              <a:t>Objectifs spécifiques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aramond"/>
              </a:rPr>
              <a:t>Replacer les méthodes qualitatives dans l’évolution des sciences soci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aramond"/>
              </a:rPr>
              <a:t>Fournir un panorama des techniques qualitatives (collecte et analys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Garamond"/>
              </a:rPr>
              <a:t>Permettre un approfondissement empirique d’une méthode particuliè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Modus Operandi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Deux parties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Garamond"/>
              </a:rPr>
              <a:t>Théorique</a:t>
            </a:r>
            <a:r>
              <a:rPr b="0" lang="fr-BE" sz="24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Exposés ex cathedra + Powerpoint (not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Interru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Respect mutuel et discipli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Importance de la </a:t>
            </a:r>
            <a:r>
              <a:rPr b="1" lang="fr-BE" sz="2800" spc="-1" strike="noStrike" u="sng">
                <a:solidFill>
                  <a:srgbClr val="ffffff"/>
                </a:solidFill>
                <a:uFillTx/>
                <a:latin typeface="Garamond"/>
              </a:rPr>
              <a:t>présence</a:t>
            </a: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 au cou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ffffff"/>
                </a:solidFill>
                <a:uFillTx/>
                <a:latin typeface="Garamond"/>
              </a:rPr>
              <a:t>Pratique</a:t>
            </a:r>
            <a:r>
              <a:rPr b="0" lang="fr-BE" sz="2400" spc="-1" strike="noStrike">
                <a:solidFill>
                  <a:srgbClr val="ffffff"/>
                </a:solidFill>
                <a:latin typeface="Garamond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Enquête de terrain. Interview : passation, retranscription et (auto)-analy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Encadrement par groupes de 2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Importance de la </a:t>
            </a:r>
            <a:r>
              <a:rPr b="1" lang="fr-BE" sz="2800" spc="-1" strike="noStrike" u="sng">
                <a:solidFill>
                  <a:srgbClr val="ffffff"/>
                </a:solidFill>
                <a:uFillTx/>
                <a:latin typeface="Garamond"/>
              </a:rPr>
              <a:t>partic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Modus Operandi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 u="sng">
                <a:solidFill>
                  <a:srgbClr val="ffffff"/>
                </a:solidFill>
                <a:uFillTx/>
                <a:latin typeface="Garamond"/>
              </a:rPr>
              <a:t>Exigences et évaluations</a:t>
            </a: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Présence physique et intellectuelle aux co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Réalisation personnelle d’une intervi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Examens écrits (1ere et/ou 2e sess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cc00"/>
                </a:solidFill>
                <a:latin typeface="Garamond"/>
              </a:rPr>
              <a:t>Structure du cours théorique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Introduction 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(1 sé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Les méthodes qualitatives et l’histoire des sciences sociales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  (2 séanc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Méthodologie de la recherche en sciences sociales</a:t>
            </a:r>
            <a:r>
              <a:rPr b="1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(1 séanc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L’enquête de terrain</a:t>
            </a:r>
            <a:r>
              <a:rPr b="0" lang="fr-FR" sz="2800" spc="-1" strike="noStrike">
                <a:solidFill>
                  <a:srgbClr val="ffffff"/>
                </a:solidFill>
                <a:latin typeface="Garamond"/>
                <a:ea typeface="宋体"/>
              </a:rPr>
              <a:t> (3 ou 4 séanc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L’analyse de données qualitatives 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(2 séanc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63920" indent="-7639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Quelques chercheurs « qualitatifs » en action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  <a:ea typeface="宋体"/>
              </a:rPr>
              <a:t> (3 ou 4 séances, Second semest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0:14:04Z</dcterms:created>
  <dc:creator>PIROTTE</dc:creator>
  <dc:description/>
  <dc:language>en-US</dc:language>
  <cp:lastModifiedBy>Sophie</cp:lastModifiedBy>
  <dcterms:modified xsi:type="dcterms:W3CDTF">2006-09-14T16:01:18Z</dcterms:modified>
  <cp:revision>3</cp:revision>
  <dc:subject/>
  <dc:title>Méthodes de Recherche Qualitative en Sciences Sociales</dc:title>
</cp:coreProperties>
</file>